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029200" cy="41148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170-DC5E-489C-9C0F-B4F08D95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366480"/>
            <a:ext cx="4273200" cy="6858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1188720"/>
            <a:ext cx="427320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2478240"/>
            <a:ext cx="427320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8C5-4084-4DDA-862B-CA74A50D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366480"/>
            <a:ext cx="4273200" cy="6858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1188720"/>
            <a:ext cx="208512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67880" y="1188720"/>
            <a:ext cx="208512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2478240"/>
            <a:ext cx="208512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67880" y="2478240"/>
            <a:ext cx="208512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853-78B2-4775-B9A6-F114B3CE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366480"/>
            <a:ext cx="4273200" cy="6858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1188720"/>
            <a:ext cx="137556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188720"/>
            <a:ext cx="137556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67360" y="1188720"/>
            <a:ext cx="137556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2478240"/>
            <a:ext cx="137556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2478240"/>
            <a:ext cx="137556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267360" y="2478240"/>
            <a:ext cx="137556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89D-76CB-42E6-9024-DD1E335B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366480"/>
            <a:ext cx="4273200" cy="6858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1188720"/>
            <a:ext cx="427320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D2F-EBA3-45BD-A221-2DCEB82B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366480"/>
            <a:ext cx="4273200" cy="6858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1188720"/>
            <a:ext cx="4273200" cy="24685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C73-11A2-40AD-B653-809C7371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366480"/>
            <a:ext cx="4273200" cy="6858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1188720"/>
            <a:ext cx="2085120" cy="24685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67880" y="1188720"/>
            <a:ext cx="2085120" cy="24685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BFE-8042-408B-8560-3B807500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366480"/>
            <a:ext cx="4273200" cy="6858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4CF-3290-4CA7-A53F-8431D62F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366480"/>
            <a:ext cx="4273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2AE-6551-4ABC-8F57-A5F9A947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366480"/>
            <a:ext cx="4273200" cy="6858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1188720"/>
            <a:ext cx="208512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67880" y="1188720"/>
            <a:ext cx="2085120" cy="24685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2478240"/>
            <a:ext cx="208512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E9C-527E-4790-93A1-A0F2B502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366480"/>
            <a:ext cx="4273200" cy="6858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1188720"/>
            <a:ext cx="2085120" cy="24685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67880" y="1188720"/>
            <a:ext cx="208512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67880" y="2478240"/>
            <a:ext cx="208512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272-FF39-4435-B009-4D3440B9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366480"/>
            <a:ext cx="4273200" cy="6858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1188720"/>
            <a:ext cx="208512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67880" y="1188720"/>
            <a:ext cx="208512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2478240"/>
            <a:ext cx="4273200" cy="1177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8E7-BA0F-4CF4-9DE0-0CD748A1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366480"/>
            <a:ext cx="4273200" cy="6858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188720"/>
            <a:ext cx="4273200" cy="24685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marL="195120" indent="-195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 indent="-165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2320" indent="-129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914400" indent="-131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174680" indent="-1299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174680" indent="-1299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174680" indent="-1299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3747960"/>
            <a:ext cx="1047600" cy="2764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17560" y="3747960"/>
            <a:ext cx="1594080" cy="2764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03600" y="3747960"/>
            <a:ext cx="1047600" cy="27648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389C-E8B7-4838-841B-BE6250E9B66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E:\Programs\Matlab\work\2010 work\Tyler's CW vibrational paper\single_cycle_pulses_plot1.WMF"/>
          <p:cNvPicPr/>
          <p:nvPr/>
        </p:nvPicPr>
        <p:blipFill>
          <a:blip r:embed="rId1"/>
          <a:srcRect l="8814" t="0" r="0" b="7975"/>
          <a:stretch/>
        </p:blipFill>
        <p:spPr>
          <a:xfrm>
            <a:off x="762120" y="425520"/>
            <a:ext cx="3809880" cy="3003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959840" y="3591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 (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 rot="16200000">
            <a:off x="-764280" y="1638000"/>
            <a:ext cx="1637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rbitrary un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26960" y="4809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6960" y="181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26960" y="31449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2451240" y="3349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96532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347184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398160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19558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1397160" y="3352680"/>
            <a:ext cx="5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890640" y="335268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5:37:44Z</dcterms:created>
  <dc:creator>Sunduz Keles</dc:creator>
  <dc:description/>
  <dc:language>en-US</dc:language>
  <cp:lastModifiedBy>Lab User</cp:lastModifiedBy>
  <dcterms:modified xsi:type="dcterms:W3CDTF">2014-07-09T22:20:12Z</dcterms:modified>
  <cp:revision>5</cp:revision>
  <dc:subject/>
  <dc:title>PowerPoint Presentation</dc:title>
</cp:coreProperties>
</file>