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86400" cy="2743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022B-06D4-494E-BE78-8BFA59C8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680" y="639720"/>
            <a:ext cx="493704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680" y="1586160"/>
            <a:ext cx="493704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DEA9-24DE-4EBB-B296-028DBD1F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680" y="63972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04760" y="63972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680" y="158616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04760" y="158616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8EF-8F9F-46D5-A5D9-27EE5DAF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680" y="639720"/>
            <a:ext cx="158940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44000" y="639720"/>
            <a:ext cx="158940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13320" y="639720"/>
            <a:ext cx="158940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680" y="1586160"/>
            <a:ext cx="158940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44000" y="1586160"/>
            <a:ext cx="158940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13320" y="1586160"/>
            <a:ext cx="158940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C4B-E1A4-45B9-8773-43916D8E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680" y="639720"/>
            <a:ext cx="4937040" cy="18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E04D-BE99-40B7-9825-CB949ECE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680" y="639720"/>
            <a:ext cx="4937040" cy="1811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25C-24CE-4316-8B87-EAE267D0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680" y="639720"/>
            <a:ext cx="2409120" cy="1811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04760" y="639720"/>
            <a:ext cx="2409120" cy="1811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107B-82AA-45F2-A671-595C5875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41C-22B3-43EC-B086-FAC26725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680" y="109440"/>
            <a:ext cx="49370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389C-C24C-45A4-8D26-1A23B98E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680" y="63972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04760" y="639720"/>
            <a:ext cx="2409120" cy="1811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680" y="158616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1DB-9E2B-40C5-B1EB-A95D8993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680" y="639720"/>
            <a:ext cx="2409120" cy="1811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04760" y="63972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04760" y="158616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D5A-9E47-4E1A-A1FE-0162C882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680" y="63972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04760" y="63972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680" y="1586160"/>
            <a:ext cx="493704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CA15-D3E4-452F-8914-F4312136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680" y="109440"/>
            <a:ext cx="4937040" cy="4572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680" y="639720"/>
            <a:ext cx="4937040" cy="1811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 fontScale="69000"/>
          </a:bodyPr>
          <a:p>
            <a:pPr marL="14760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1840" indent="-123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95000" indent="-98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693000" indent="-98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891720" indent="-98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891720" indent="-98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891720" indent="-98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4680" y="2543040"/>
            <a:ext cx="1279440" cy="1461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  <a:defRPr b="0" lang="en-US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fld id="{48B2D534-E4CB-4560-8FF2-7D283C723498}" type="datetime">
              <a:rPr b="0" lang="en-US" sz="8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74880" y="2543040"/>
            <a:ext cx="1736640" cy="1461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932280" y="2543040"/>
            <a:ext cx="1279440" cy="1461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  <a:defRPr b="0" lang="en-US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fld id="{1B962989-7C83-4A96-88C5-FE0FE91E8F8E}" type="slidenum">
              <a:rPr b="0" lang="en-US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7" descr="10torr_spectrum_plot2.tif"/>
          <p:cNvPicPr/>
          <p:nvPr/>
        </p:nvPicPr>
        <p:blipFill>
          <a:blip r:embed="rId1"/>
          <a:srcRect l="9073" t="4622" r="0" b="13112"/>
          <a:stretch/>
        </p:blipFill>
        <p:spPr>
          <a:xfrm>
            <a:off x="1000080" y="210960"/>
            <a:ext cx="3915000" cy="1922760"/>
          </a:xfrm>
          <a:prstGeom prst="rect">
            <a:avLst/>
          </a:prstGeom>
          <a:ln w="0">
            <a:noFill/>
          </a:ln>
        </p:spPr>
      </p:pic>
      <p:sp>
        <p:nvSpPr>
          <p:cNvPr id="42" name="TextBox 38"/>
          <p:cNvSpPr/>
          <p:nvPr/>
        </p:nvSpPr>
        <p:spPr>
          <a:xfrm>
            <a:off x="1057320" y="2362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avelength (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9"/>
          <p:cNvSpPr/>
          <p:nvPr/>
        </p:nvSpPr>
        <p:spPr>
          <a:xfrm rot="16200000">
            <a:off x="-587520" y="838080"/>
            <a:ext cx="1878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og(Intens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arbitrary un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0"/>
          <p:cNvSpPr/>
          <p:nvPr/>
        </p:nvSpPr>
        <p:spPr>
          <a:xfrm>
            <a:off x="1364040" y="27144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1"/>
          <p:cNvSpPr/>
          <p:nvPr/>
        </p:nvSpPr>
        <p:spPr>
          <a:xfrm>
            <a:off x="2079720" y="380880"/>
            <a:ext cx="3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2"/>
          <p:cNvSpPr/>
          <p:nvPr/>
        </p:nvSpPr>
        <p:spPr>
          <a:xfrm>
            <a:off x="2504160" y="237960"/>
            <a:ext cx="3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3"/>
          <p:cNvSpPr/>
          <p:nvPr/>
        </p:nvSpPr>
        <p:spPr>
          <a:xfrm>
            <a:off x="3087000" y="324000"/>
            <a:ext cx="3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4"/>
          <p:cNvSpPr/>
          <p:nvPr/>
        </p:nvSpPr>
        <p:spPr>
          <a:xfrm>
            <a:off x="3728160" y="311040"/>
            <a:ext cx="3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5"/>
          <p:cNvSpPr/>
          <p:nvPr/>
        </p:nvSpPr>
        <p:spPr>
          <a:xfrm>
            <a:off x="4060080" y="914400"/>
            <a:ext cx="3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6"/>
          <p:cNvSpPr/>
          <p:nvPr/>
        </p:nvSpPr>
        <p:spPr>
          <a:xfrm>
            <a:off x="1305720" y="843120"/>
            <a:ext cx="49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7"/>
          <p:cNvSpPr/>
          <p:nvPr/>
        </p:nvSpPr>
        <p:spPr>
          <a:xfrm>
            <a:off x="1004400" y="1414440"/>
            <a:ext cx="49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671400" y="16128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430200" y="1004760"/>
            <a:ext cx="6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430200" y="404640"/>
            <a:ext cx="6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1093680" y="210024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1908000" y="210024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2722680" y="2100240"/>
            <a:ext cx="7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3532320" y="2100240"/>
            <a:ext cx="7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4346640" y="210024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01:59:45Z</dcterms:created>
  <dc:creator>Sunduz Keles</dc:creator>
  <dc:description/>
  <dc:language>en-US</dc:language>
  <cp:lastModifiedBy>Lab User</cp:lastModifiedBy>
  <cp:lastPrinted>2010-10-31T02:41:19Z</cp:lastPrinted>
  <dcterms:modified xsi:type="dcterms:W3CDTF">2014-07-11T00:25:03Z</dcterms:modified>
  <cp:revision>16</cp:revision>
  <dc:subject/>
  <dc:title>Slide 1</dc:title>
</cp:coreProperties>
</file>