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86400" cy="274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7E3-802B-48BC-B053-C9A0957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63D-2CF1-42BD-A71E-7B2EAA3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4F1-09DA-46B4-8B3D-3E2CE01C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400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13320" y="63972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400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13320" y="1586160"/>
            <a:ext cx="158940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ECF-44B9-4542-86EE-08CB623D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FE6-89CB-40AC-9D63-B4757DE1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ECD-50C4-4608-9EF4-4AF1093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C48-1F7D-4118-92BB-BBA2CCE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6F8-C470-4938-88FA-4A4E155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109440"/>
            <a:ext cx="4937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CEF-76A0-4024-910D-7120889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F68-5D3D-4521-AC19-946533E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04760" y="158616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581-15AE-4CBE-BAD5-331AFF4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95760"/>
            <a:ext cx="4937040" cy="484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04760" y="639720"/>
            <a:ext cx="240912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1586160"/>
            <a:ext cx="4937040" cy="864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E85-5064-4B65-A957-428071D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109440"/>
            <a:ext cx="4937040" cy="457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639720"/>
            <a:ext cx="4937040" cy="1811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 fontScale="69000"/>
          </a:bodyPr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1840" indent="-123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9500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693000" indent="-98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891720" indent="-98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6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D53997B5-95EF-45EE-901C-E71BB4AD982C}" type="datetime">
              <a:rPr b="0" lang="en-US" sz="8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74880" y="2543040"/>
            <a:ext cx="17366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32280" y="2543040"/>
            <a:ext cx="1279440" cy="146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fld id="{5B699F0A-2658-4ADA-9DF9-503DA4595BD1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7" descr="10torr_spectrum_plot2.tif"/>
          <p:cNvPicPr/>
          <p:nvPr/>
        </p:nvPicPr>
        <p:blipFill>
          <a:blip r:embed="rId1"/>
          <a:srcRect l="7104" t="0" r="0" b="6896"/>
          <a:stretch/>
        </p:blipFill>
        <p:spPr>
          <a:xfrm>
            <a:off x="1828800" y="0"/>
            <a:ext cx="2693880" cy="2057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1"/>
          <p:cNvSpPr/>
          <p:nvPr/>
        </p:nvSpPr>
        <p:spPr>
          <a:xfrm>
            <a:off x="1690560" y="81000"/>
            <a:ext cx="152640" cy="19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8"/>
          <p:cNvSpPr/>
          <p:nvPr/>
        </p:nvSpPr>
        <p:spPr>
          <a:xfrm>
            <a:off x="1828800" y="2286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velength (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9"/>
          <p:cNvSpPr/>
          <p:nvPr/>
        </p:nvSpPr>
        <p:spPr>
          <a:xfrm rot="16200000">
            <a:off x="201240" y="728640"/>
            <a:ext cx="1878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(Inten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arbitrary un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1"/>
          <p:cNvSpPr/>
          <p:nvPr/>
        </p:nvSpPr>
        <p:spPr>
          <a:xfrm>
            <a:off x="2609640" y="7632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474920" y="16747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1233360" y="103968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1233360" y="39852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77800" y="20574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2109960" y="205740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2743200" y="20574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373560" y="205740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4010040" y="20574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233360" y="135252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233360" y="71604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0"/>
          <p:cNvSpPr/>
          <p:nvPr/>
        </p:nvSpPr>
        <p:spPr>
          <a:xfrm>
            <a:off x="1233360" y="81000"/>
            <a:ext cx="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33"/>
          <p:cNvSpPr/>
          <p:nvPr/>
        </p:nvSpPr>
        <p:spPr>
          <a:xfrm>
            <a:off x="2743200" y="363600"/>
            <a:ext cx="0" cy="6411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1:59:45Z</dcterms:created>
  <dc:creator>Sunduz Keles</dc:creator>
  <dc:description/>
  <dc:language>en-US</dc:language>
  <cp:lastModifiedBy>Lab User</cp:lastModifiedBy>
  <cp:lastPrinted>2010-10-31T02:41:19Z</cp:lastPrinted>
  <dcterms:modified xsi:type="dcterms:W3CDTF">2014-07-14T02:38:41Z</dcterms:modified>
  <cp:revision>21</cp:revision>
  <dc:subject/>
  <dc:title>Slide 1</dc:title>
</cp:coreProperties>
</file>