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86400" cy="2743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9A6B-984B-4A44-8621-B86DBF82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680" y="95760"/>
            <a:ext cx="4937040" cy="4845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680" y="639720"/>
            <a:ext cx="493704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680" y="1586160"/>
            <a:ext cx="493704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8249-B845-433A-89BF-31D46761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680" y="95760"/>
            <a:ext cx="4937040" cy="4845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680" y="639720"/>
            <a:ext cx="240912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04760" y="639720"/>
            <a:ext cx="240912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680" y="1586160"/>
            <a:ext cx="240912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04760" y="1586160"/>
            <a:ext cx="240912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3031-A234-43F1-AFD4-4342D430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680" y="95760"/>
            <a:ext cx="4937040" cy="4845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680" y="639720"/>
            <a:ext cx="158940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44000" y="639720"/>
            <a:ext cx="158940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13320" y="639720"/>
            <a:ext cx="158940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680" y="1586160"/>
            <a:ext cx="158940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44000" y="1586160"/>
            <a:ext cx="158940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13320" y="1586160"/>
            <a:ext cx="158940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4B79-3969-4EAF-9780-100E8C33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680" y="95760"/>
            <a:ext cx="4937040" cy="4845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680" y="639720"/>
            <a:ext cx="4937040" cy="18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CAEF-EFFC-47C7-9932-C3E81807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680" y="95760"/>
            <a:ext cx="4937040" cy="4845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680" y="639720"/>
            <a:ext cx="4937040" cy="18115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8EDF-F7ED-4533-9697-B51C3559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680" y="95760"/>
            <a:ext cx="4937040" cy="4845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680" y="639720"/>
            <a:ext cx="2409120" cy="18115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04760" y="639720"/>
            <a:ext cx="2409120" cy="18115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0EC1-836E-4E65-AF9E-17DE5AAF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680" y="95760"/>
            <a:ext cx="4937040" cy="4845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D4FF-4E30-4961-884C-4B053A10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680" y="109440"/>
            <a:ext cx="49370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BE86-CC5B-43B6-AFA0-5F9491D8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680" y="95760"/>
            <a:ext cx="4937040" cy="4845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680" y="639720"/>
            <a:ext cx="240912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04760" y="639720"/>
            <a:ext cx="2409120" cy="18115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680" y="1586160"/>
            <a:ext cx="240912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35CF-B524-412A-9545-B0BCE38A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680" y="95760"/>
            <a:ext cx="4937040" cy="4845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680" y="639720"/>
            <a:ext cx="2409120" cy="18115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04760" y="639720"/>
            <a:ext cx="240912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04760" y="1586160"/>
            <a:ext cx="240912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4B2F-B6ED-4219-85B7-C926C3A7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680" y="95760"/>
            <a:ext cx="4937040" cy="4845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680" y="639720"/>
            <a:ext cx="240912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04760" y="639720"/>
            <a:ext cx="240912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680" y="1586160"/>
            <a:ext cx="493704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95F4-49BB-4C0F-90B2-BC0929D6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680" y="109440"/>
            <a:ext cx="4937040" cy="4572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680" y="639720"/>
            <a:ext cx="4937040" cy="18115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 fontScale="69000"/>
          </a:bodyPr>
          <a:p>
            <a:pPr marL="14760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21840" indent="-123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95000" indent="-98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693000" indent="-98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891720" indent="-982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891720" indent="-982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891720" indent="-982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4680" y="2543040"/>
            <a:ext cx="1279440" cy="1461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  <a:defRPr b="0" lang="en-US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fld id="{2613709A-45BB-4987-BA0A-594458ED9077}" type="datetime">
              <a:rPr b="0" lang="en-US" sz="8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74880" y="2543040"/>
            <a:ext cx="1736640" cy="1461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932280" y="2543040"/>
            <a:ext cx="1279440" cy="1461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  <a:defRPr b="0" lang="en-US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fld id="{928F92E9-7D25-4DF1-807A-D0D433FD0EDE}" type="slidenum">
              <a:rPr b="0" lang="en-US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7" descr="10torr_spectrum_plot2.tif"/>
          <p:cNvPicPr/>
          <p:nvPr/>
        </p:nvPicPr>
        <p:blipFill>
          <a:blip r:embed="rId1"/>
          <a:srcRect l="8454" t="5197" r="3922" b="11887"/>
          <a:stretch/>
        </p:blipFill>
        <p:spPr>
          <a:xfrm>
            <a:off x="990720" y="150840"/>
            <a:ext cx="3965400" cy="2058840"/>
          </a:xfrm>
          <a:prstGeom prst="rect">
            <a:avLst/>
          </a:prstGeom>
          <a:ln w="0">
            <a:noFill/>
          </a:ln>
        </p:spPr>
      </p:pic>
      <p:sp>
        <p:nvSpPr>
          <p:cNvPr id="42" name="TextBox 38"/>
          <p:cNvSpPr/>
          <p:nvPr/>
        </p:nvSpPr>
        <p:spPr>
          <a:xfrm>
            <a:off x="1057320" y="2362320"/>
            <a:ext cx="38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avelength (n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9"/>
          <p:cNvSpPr/>
          <p:nvPr/>
        </p:nvSpPr>
        <p:spPr>
          <a:xfrm rot="16200000">
            <a:off x="-587520" y="838080"/>
            <a:ext cx="1878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og(Intens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arbitrary un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0"/>
          <p:cNvSpPr/>
          <p:nvPr/>
        </p:nvSpPr>
        <p:spPr>
          <a:xfrm>
            <a:off x="1700640" y="29376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1"/>
          <p:cNvSpPr/>
          <p:nvPr/>
        </p:nvSpPr>
        <p:spPr>
          <a:xfrm>
            <a:off x="2287800" y="490680"/>
            <a:ext cx="37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2"/>
          <p:cNvSpPr/>
          <p:nvPr/>
        </p:nvSpPr>
        <p:spPr>
          <a:xfrm>
            <a:off x="2743920" y="401760"/>
            <a:ext cx="37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3"/>
          <p:cNvSpPr/>
          <p:nvPr/>
        </p:nvSpPr>
        <p:spPr>
          <a:xfrm>
            <a:off x="3223440" y="422280"/>
            <a:ext cx="37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4"/>
          <p:cNvSpPr/>
          <p:nvPr/>
        </p:nvSpPr>
        <p:spPr>
          <a:xfrm>
            <a:off x="3728160" y="189000"/>
            <a:ext cx="37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5"/>
          <p:cNvSpPr/>
          <p:nvPr/>
        </p:nvSpPr>
        <p:spPr>
          <a:xfrm>
            <a:off x="4252320" y="1344600"/>
            <a:ext cx="37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6"/>
          <p:cNvSpPr/>
          <p:nvPr/>
        </p:nvSpPr>
        <p:spPr>
          <a:xfrm>
            <a:off x="1359720" y="730080"/>
            <a:ext cx="49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7"/>
          <p:cNvSpPr/>
          <p:nvPr/>
        </p:nvSpPr>
        <p:spPr>
          <a:xfrm>
            <a:off x="1544400" y="139716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  <a:ea typeface="Arial"/>
              </a:rPr>
              <a:t>AS2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671400" y="16128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3"/>
          <p:cNvSpPr/>
          <p:nvPr/>
        </p:nvSpPr>
        <p:spPr>
          <a:xfrm>
            <a:off x="430200" y="974880"/>
            <a:ext cx="6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430200" y="328680"/>
            <a:ext cx="6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1135080" y="212076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1990800" y="2122560"/>
            <a:ext cx="7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2846520" y="2122560"/>
            <a:ext cx="7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3701880" y="212256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4556160" y="212256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0"/>
          <p:cNvSpPr/>
          <p:nvPr/>
        </p:nvSpPr>
        <p:spPr>
          <a:xfrm>
            <a:off x="1990800" y="2120760"/>
            <a:ext cx="7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1"/>
          <p:cNvSpPr/>
          <p:nvPr/>
        </p:nvSpPr>
        <p:spPr>
          <a:xfrm>
            <a:off x="2846520" y="2120760"/>
            <a:ext cx="7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3701880" y="212076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3"/>
          <p:cNvSpPr/>
          <p:nvPr/>
        </p:nvSpPr>
        <p:spPr>
          <a:xfrm>
            <a:off x="4556160" y="212076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7"/>
          <p:cNvSpPr/>
          <p:nvPr/>
        </p:nvSpPr>
        <p:spPr>
          <a:xfrm>
            <a:off x="1986480" y="121932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  <a:ea typeface="Arial"/>
              </a:rPr>
              <a:t>AS1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7"/>
          <p:cNvSpPr/>
          <p:nvPr/>
        </p:nvSpPr>
        <p:spPr>
          <a:xfrm>
            <a:off x="2592720" y="5716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  <a:ea typeface="Arial"/>
              </a:rPr>
              <a:t>P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7"/>
          <p:cNvSpPr/>
          <p:nvPr/>
        </p:nvSpPr>
        <p:spPr>
          <a:xfrm>
            <a:off x="2975400" y="636480"/>
            <a:ext cx="4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  <a:ea typeface="Arial"/>
              </a:rPr>
              <a:t>S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7"/>
          <p:cNvSpPr/>
          <p:nvPr/>
        </p:nvSpPr>
        <p:spPr>
          <a:xfrm>
            <a:off x="3508920" y="609480"/>
            <a:ext cx="4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  <a:ea typeface="Arial"/>
              </a:rPr>
              <a:t>S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01:59:45Z</dcterms:created>
  <dc:creator>Sunduz Keles</dc:creator>
  <dc:description/>
  <dc:language>en-US</dc:language>
  <cp:lastModifiedBy>Lab User</cp:lastModifiedBy>
  <cp:lastPrinted>2010-10-31T02:41:19Z</cp:lastPrinted>
  <dcterms:modified xsi:type="dcterms:W3CDTF">2014-07-11T16:37:11Z</dcterms:modified>
  <cp:revision>19</cp:revision>
  <dc:subject/>
  <dc:title>Slide 1</dc:title>
</cp:coreProperties>
</file>